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B686-3864-44A8-A4E9-7949268C5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E47D-9F0A-49F3-A59F-EA8C9030C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0D7F-72E6-4ED7-A717-5D8CEDF32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4DFF-639C-4794-84A8-6908EA828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7C6E-43AD-4B2D-BDE9-17A6EB4E6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7A35-0C6F-49D2-AE74-53CDE0C74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2307-16C6-47E8-BF2D-D69AB1765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D8C4-FF36-40F5-9266-985E1614C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AEBC-71DD-4BE6-BFF8-09759A1A7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98F1-D152-4DE9-A5B6-1E3075D81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B1A6-4875-48AD-A755-613368CA1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6A56-870D-41E9-984E-213BFB509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FC32C-15DF-4B79-8870-D2058EA2E4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2209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is a better shooter short or tall peopl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648320" y="3581280"/>
            <a:ext cx="3111480" cy="2387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219320" y="3048120"/>
            <a:ext cx="240012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predict that short people are better shooter than tall. Because shorter people shoot more than tal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erial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asketba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ve short peop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ve tall peop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dur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ther materi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south gy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 &amp; Conclus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hypothesis was right. It said that short people are better than tall when it comes to shooting hoops. I think it is because short people shoot the threes and tall people stay down low.  Tall people really don’t come from down low to shoot a three. Short people don’t shoot the most but they can make more points if they drain thre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bl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pendent Variable – tall or short peop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endent Variable – how many shots you ma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led Variable – I made them shoot at the block , free through, and three poin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1T14:36:13Z</dcterms:created>
  <dc:creator>STERLING  USD376</dc:creator>
  <dc:description/>
  <dc:language>en-US</dc:language>
  <cp:lastModifiedBy>Murphy-Dell</cp:lastModifiedBy>
  <dcterms:modified xsi:type="dcterms:W3CDTF">2011-03-21T01:37:03Z</dcterms:modified>
  <cp:revision>2</cp:revision>
  <dc:subject/>
  <dc:title>Problem </dc:title>
</cp:coreProperties>
</file>